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4.jpeg" ContentType="image/jpeg"/>
  <Override PartName="/ppt/media/image25.png" ContentType="image/pn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gif" ContentType="image/gif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B855-E6C0-464B-8660-2A1B28C5E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76BC-96A4-422C-A7E7-729F9212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C8D9-9692-419E-BA55-5CDB97F33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FFE7-5BD7-4935-8650-02FC43788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E943E-E456-4A02-88C7-A2154E569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25B3EE-9320-47C2-8F10-A20431FC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718E7-1688-4343-BD15-F205BAE4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37DC4E-B775-464F-9633-C793C251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836B4-B985-41C6-892E-DCEA2F00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33E12-FD03-4332-B7B7-FA652895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B1FB8-C593-436C-8741-CEABE77F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DE69-2E68-48F3-9988-691A40F5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EA59CB-A047-45FD-AED8-88CB6781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D883D-6FDF-482E-B686-0698174A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C6E3E-EA41-40E7-94A8-B35D7316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0A731-E0CE-43D7-8AFE-0B4B905B4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26860-7424-4B67-AAA0-8F502D7DE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AF10-931F-4BF7-9BA4-64931CF6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C253-60E9-4433-86A3-00CDB2A0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71F1-F2DB-4721-AA6C-1DC6DE82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A407-7D7A-48F5-973C-905AC942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CBFE-D5B3-4DD5-83D1-A6075074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7B4D-C8C4-47BF-A308-43998132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42FE-5A34-4458-9518-F4AC26C7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A294-D392-4359-99AE-7B2A42C644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8377F-818A-4FA0-A6BE-4A798D1D8DA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gnk.gov.ru/index.php?module=ContentExpress&amp;func=display&amp;ceid=26&amp;bid=28&amp;btitle=&#1054;&#1073;&#1088;&#1072;&#1090;&#1085;&#1072;&#1103;%20&#1089;&#1074;&#1103;&#1079;&#1100;&amp;meid=12" TargetMode="External"/><Relationship Id="rId3" Type="http://schemas.openxmlformats.org/officeDocument/2006/relationships/image" Target="../media/image18.gif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УРОК по ОБЖ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32000" y="2349360"/>
            <a:ext cx="64720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Тема: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Вредные привычки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урящий человек – раб сигаре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7" descr="{69748758-827C-4953-9A4A-14C2851495D5}"/>
          <p:cNvPicPr/>
          <p:nvPr/>
        </p:nvPicPr>
        <p:blipFill>
          <a:blip r:embed="rId1"/>
          <a:stretch/>
        </p:blipFill>
        <p:spPr>
          <a:xfrm>
            <a:off x="1332000" y="1905120"/>
            <a:ext cx="6480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и пассивном курении некурящий человек страдает больш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5" descr="{60948C64-3001-4DCF-9C4C-9B1925FD6C4A}"/>
          <p:cNvPicPr/>
          <p:nvPr/>
        </p:nvPicPr>
        <p:blipFill>
          <a:blip r:embed="rId1"/>
          <a:stretch/>
        </p:blipFill>
        <p:spPr>
          <a:xfrm>
            <a:off x="755640" y="1773360"/>
            <a:ext cx="68407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От воздействия табачного дыма страдают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Легочная систем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Органы пищеварени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Сердечно-сосудистая систем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post-19-1143712483[1]"/>
          <p:cNvPicPr/>
          <p:nvPr/>
        </p:nvPicPr>
        <p:blipFill>
          <a:blip r:embed="rId1"/>
          <a:stretch/>
        </p:blipFill>
        <p:spPr>
          <a:xfrm>
            <a:off x="684360" y="2421000"/>
            <a:ext cx="7488000" cy="4263840"/>
          </a:xfrm>
          <a:prstGeom prst="rect">
            <a:avLst/>
          </a:prstGeom>
          <a:ln w="76320">
            <a:solidFill>
              <a:srgbClr val="00cc00"/>
            </a:solidFill>
            <a:miter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7702560" cy="75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8000"/>
                </a:solidFill>
                <a:latin typeface="Tahoma"/>
              </a:rPr>
              <a:t>О вреде курения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704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Наглядный пример различия между легкими курильщика и легкими человека, который не курит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1704960" y="2773440"/>
            <a:ext cx="1000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1704960" y="2773440"/>
            <a:ext cx="1000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448240" y="3324240"/>
          <a:ext cx="1657440" cy="762120"/>
        </p:xfrm>
        <a:graphic>
          <a:graphicData uri="http://schemas.openxmlformats.org/drawingml/2006/table">
            <a:tbl>
              <a:tblPr/>
              <a:tblGrid>
                <a:gridCol w="16574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Rectangle 13"/>
          <p:cNvSpPr/>
          <p:nvPr/>
        </p:nvSpPr>
        <p:spPr>
          <a:xfrm>
            <a:off x="4163760" y="1095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db3c0276-6e20-4c86-9bcf-39a6921ef004"/>
          <p:cNvPicPr/>
          <p:nvPr/>
        </p:nvPicPr>
        <p:blipFill>
          <a:blip r:embed="rId1"/>
          <a:stretch/>
        </p:blipFill>
        <p:spPr>
          <a:xfrm>
            <a:off x="6227640" y="1413000"/>
            <a:ext cx="2340000" cy="1855800"/>
          </a:xfrm>
          <a:prstGeom prst="rect">
            <a:avLst/>
          </a:prstGeom>
          <a:ln w="76320">
            <a:solidFill>
              <a:srgbClr val="00cc00"/>
            </a:solidFill>
            <a:miter/>
          </a:ln>
        </p:spPr>
      </p:pic>
      <p:pic>
        <p:nvPicPr>
          <p:cNvPr id="115" name="Picture 3" descr="i[16]"/>
          <p:cNvPicPr/>
          <p:nvPr/>
        </p:nvPicPr>
        <p:blipFill>
          <a:blip r:embed="rId2"/>
          <a:stretch/>
        </p:blipFill>
        <p:spPr>
          <a:xfrm>
            <a:off x="6300720" y="4076640"/>
            <a:ext cx="2521080" cy="199728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 u="sng">
                <a:solidFill>
                  <a:srgbClr val="ff0000"/>
                </a:solidFill>
                <a:uFillTx/>
                <a:latin typeface="Times New Roman"/>
              </a:rPr>
              <a:t>Это надо знать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6121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2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Курение поражает органы дыхания, сердечно-сосудистую систему, желудочно-кишечный трак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2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Курильщики болеют раком лёгких в несколько раз чаще, чем некурящие и составляют 96-100% всех больных раком лёгких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2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Курение увеличивает вероятность других видов злокачественных опухолей (полости рта, пищевода, гортани, поджелудочной железы, желудка, толстой кишки, почки, печен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0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1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4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8000"/>
                </a:solidFill>
                <a:latin typeface="Times New Roman"/>
              </a:rPr>
              <a:t>Курение является фактором риска сердечно-сосудистых заболеваний (атеросклероз и инфаркт миокарда)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3" descr="385"/>
          <p:cNvPicPr/>
          <p:nvPr/>
        </p:nvPicPr>
        <p:blipFill>
          <a:blip r:embed="rId1"/>
          <a:stretch/>
        </p:blipFill>
        <p:spPr>
          <a:xfrm>
            <a:off x="5219640" y="2133720"/>
            <a:ext cx="2840040" cy="3313080"/>
          </a:xfrm>
          <a:prstGeom prst="rect">
            <a:avLst/>
          </a:prstGeom>
          <a:ln w="76320">
            <a:solidFill>
              <a:srgbClr val="33cc33"/>
            </a:solidFill>
            <a:miter/>
          </a:ln>
          <a:effectLst>
            <a:outerShdw dist="107932" dir="2700000" blurRad="0" rotWithShape="0">
              <a:srgbClr val="009900">
                <a:alpha val="50000"/>
              </a:srgbClr>
            </a:outerShdw>
          </a:effectLst>
        </p:spPr>
      </p:pic>
      <p:sp>
        <p:nvSpPr>
          <p:cNvPr id="120" name="Rectangle 4"/>
          <p:cNvSpPr/>
          <p:nvPr/>
        </p:nvSpPr>
        <p:spPr>
          <a:xfrm>
            <a:off x="-1765440" y="1628640"/>
            <a:ext cx="78472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в 13 раз чаще заболевают Стенокарди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5" descr="24"/>
          <p:cNvPicPr/>
          <p:nvPr/>
        </p:nvPicPr>
        <p:blipFill>
          <a:blip r:embed="rId2"/>
          <a:stretch/>
        </p:blipFill>
        <p:spPr>
          <a:xfrm>
            <a:off x="1258920" y="2708280"/>
            <a:ext cx="2754360" cy="3673440"/>
          </a:xfrm>
          <a:prstGeom prst="rect">
            <a:avLst/>
          </a:prstGeom>
          <a:ln w="76320">
            <a:solidFill>
              <a:srgbClr val="33cc33"/>
            </a:solidFill>
            <a:miter/>
          </a:ln>
          <a:effectLst>
            <a:outerShdw dist="107932" dir="13500000" blurRad="0" rotWithShape="0">
              <a:srgbClr val="009900">
                <a:alpha val="50000"/>
              </a:srgbClr>
            </a:outerShdw>
          </a:effectLst>
        </p:spPr>
      </p:pic>
      <p:sp>
        <p:nvSpPr>
          <p:cNvPr id="122" name="Rectangle 6"/>
          <p:cNvSpPr/>
          <p:nvPr/>
        </p:nvSpPr>
        <p:spPr>
          <a:xfrm>
            <a:off x="4638960" y="5589720"/>
            <a:ext cx="442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в 12 раз -Инфарктом миокар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8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изнаки отравления никотино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Горечь во рт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ашель и головокруже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Тошно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лабость и недомога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Бледность лиц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{42C91DB0-610D-43F3-9F0B-7E963737B087}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{113CC2FF-72B8-49C3-8B82-23BAA4DDAF5D}"/>
          <p:cNvPicPr/>
          <p:nvPr/>
        </p:nvPicPr>
        <p:blipFill>
          <a:blip r:embed="rId1"/>
          <a:stretch/>
        </p:blipFill>
        <p:spPr>
          <a:xfrm>
            <a:off x="395280" y="291960"/>
            <a:ext cx="8353440" cy="62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Алкоголь, его влияние на организ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ронический гастрит желуд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вивается цирроз пече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 разрушение печен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здействует на головной моз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коряет биологического стар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водит к развитию алкоголизм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Учебные вопросы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1. Понятие о вредных привычках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2. Табакакуре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3. Алкогол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4. Наркомания и токсиком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{98FD7FE8-D60D-423A-9DA8-38886AD4623F}"/>
          <p:cNvPicPr/>
          <p:nvPr/>
        </p:nvPicPr>
        <p:blipFill>
          <a:blip r:embed="rId1"/>
          <a:stretch/>
        </p:blipFill>
        <p:spPr>
          <a:xfrm>
            <a:off x="324000" y="291960"/>
            <a:ext cx="8424720" cy="63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Алкоголи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3" descr="{0FB603A1-A736-4A0D-8B04-F6B16A9BC8B3}"/>
          <p:cNvPicPr/>
          <p:nvPr/>
        </p:nvPicPr>
        <p:blipFill>
          <a:blip r:embed="rId1"/>
          <a:stretch/>
        </p:blipFill>
        <p:spPr>
          <a:xfrm>
            <a:off x="1187280" y="1557360"/>
            <a:ext cx="6697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изнаки отравления алкоголе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Головокружение, тошнота и рвот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Уменьшение сердечных сокращений, снижение артериального давл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озбужденное или депрессивное состояни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Первая помощь при отравлении алкоголе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ложить набок и очистит дыхательные пу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ть понюхать ватку, смоченную в нашатырном спирт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мыть желуд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ожить на голову холодный компре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звать скорую помощь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8560" y="2188800"/>
            <a:ext cx="6553080" cy="1211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Наркомания</a:t>
            </a:r>
            <a:r>
              <a:rPr b="0" i="1" lang="ru-RU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- (от греч. оцепенение, сон, безумие) – это хроническое заболевание, вызванное употреблением наркотик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179280" y="4292640"/>
            <a:ext cx="456264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Признаки наркомани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епреодолимое влечение к приёму наркотиков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енденция к повышению количества    принимаемого вещест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аркомания и токсиком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зникает в результате злоупотребления веществами, вызывающие кратковременного чувство приятного психического состоя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знаки наркомании и токсикомани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сихическая зависим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изическая зависим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менение чувствительности к наркотику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news_ac8d5cadc9ff225291a1f6189b6d3829_0"/>
          <p:cNvPicPr/>
          <p:nvPr/>
        </p:nvPicPr>
        <p:blipFill>
          <a:blip r:embed="rId1"/>
          <a:stretch/>
        </p:blipFill>
        <p:spPr>
          <a:xfrm>
            <a:off x="5651640" y="2924280"/>
            <a:ext cx="3203280" cy="2871720"/>
          </a:xfrm>
          <a:prstGeom prst="rect">
            <a:avLst/>
          </a:prstGeom>
          <a:ln w="114480">
            <a:solidFill>
              <a:srgbClr val="33cc33"/>
            </a:solidFill>
            <a:miter/>
          </a:ln>
        </p:spPr>
      </p:pic>
      <p:pic>
        <p:nvPicPr>
          <p:cNvPr id="141" name="Picture 3" descr="gnk-100x100-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27640" y="189000"/>
            <a:ext cx="2630520" cy="25318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02920" y="188640"/>
            <a:ext cx="482436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600" spc="-1" strike="noStrike">
                <a:solidFill>
                  <a:srgbClr val="008000"/>
                </a:solidFill>
                <a:latin typeface="Times New Roman"/>
              </a:rPr>
              <a:t>Официальная статистика</a:t>
            </a:r>
            <a:endParaRPr b="0" lang="en-US" sz="5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5111640" cy="41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SzPct val="1235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Россия является крупнейшим рынком героина в Европе. Общее число лиц, употребляющих наркотики в России составляет от 3 до 4 млн., треть из которых – лица, злоупотребляющие героин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SzPct val="1235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В России показатель ВИЧ-инфицирования, связанного с употреблением инъекционных наркотиков, является одним из самых высоких в мир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SzPct val="1235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В марте 2006 был опубликован ежегодный доклад Международного комитета по контролю за наркотиками (МККН) при ООН, где было сказано, что в России официально зарегистрировано 500 тыс. наркоманов, но по данным МККН, общее количество лиц может достигать 6 млн., или 4% численности населения. 2 млн. российских наркоманов – молодые люди в возрасте до 24 ле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77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770" fill="hold"/>
                                        <p:tgtEl>
                                          <p:spTgt spid="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6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ffffff"/>
                </a:solidFill>
                <a:latin typeface="Times New Roman"/>
              </a:rPr>
              <a:t>Фотографии людей до и после того как они начали принимать наркотики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4" descr="newface1"/>
          <p:cNvPicPr/>
          <p:nvPr/>
        </p:nvPicPr>
        <p:blipFill>
          <a:blip r:embed="rId1"/>
          <a:stretch/>
        </p:blipFill>
        <p:spPr>
          <a:xfrm>
            <a:off x="2916360" y="2835360"/>
            <a:ext cx="3073320" cy="230508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pic>
        <p:nvPicPr>
          <p:cNvPr id="147" name="Picture 5" descr="faces1"/>
          <p:cNvPicPr/>
          <p:nvPr/>
        </p:nvPicPr>
        <p:blipFill>
          <a:blip r:embed="rId2"/>
          <a:stretch/>
        </p:blipFill>
        <p:spPr>
          <a:xfrm>
            <a:off x="468360" y="4581360"/>
            <a:ext cx="2952720" cy="18608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48" name="Picture 6" descr="faces6"/>
          <p:cNvPicPr/>
          <p:nvPr/>
        </p:nvPicPr>
        <p:blipFill>
          <a:blip r:embed="rId3"/>
          <a:stretch/>
        </p:blipFill>
        <p:spPr>
          <a:xfrm>
            <a:off x="324000" y="1557360"/>
            <a:ext cx="2879640" cy="181440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  <p:pic>
        <p:nvPicPr>
          <p:cNvPr id="149" name="Picture 7" descr="faces5"/>
          <p:cNvPicPr/>
          <p:nvPr/>
        </p:nvPicPr>
        <p:blipFill>
          <a:blip r:embed="rId4"/>
          <a:stretch/>
        </p:blipFill>
        <p:spPr>
          <a:xfrm>
            <a:off x="5651640" y="4437000"/>
            <a:ext cx="2952720" cy="186048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  <p:pic>
        <p:nvPicPr>
          <p:cNvPr id="150" name="Picture 8" descr="faces8"/>
          <p:cNvPicPr/>
          <p:nvPr/>
        </p:nvPicPr>
        <p:blipFill>
          <a:blip r:embed="rId5"/>
          <a:stretch/>
        </p:blipFill>
        <p:spPr>
          <a:xfrm>
            <a:off x="5724360" y="1557360"/>
            <a:ext cx="2880000" cy="18144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000"/>
                            </p:stCondLst>
                            <p:childTnLst>
                              <p:par>
                                <p:cTn id="14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6000"/>
                            </p:stCondLst>
                            <p:childTnLst>
                              <p:par>
                                <p:cTn id="15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8000"/>
                            </p:stCondLst>
                            <p:childTnLst>
                              <p:par>
                                <p:cTn id="16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6" descr="{D9F07142-893E-4CD8-BBB3-5B9F270B2188}"/>
          <p:cNvPicPr/>
          <p:nvPr/>
        </p:nvPicPr>
        <p:blipFill>
          <a:blip r:embed="rId1"/>
          <a:stretch/>
        </p:blipFill>
        <p:spPr>
          <a:xfrm>
            <a:off x="395280" y="189000"/>
            <a:ext cx="82803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изнаки наркотического отравл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овышение мышечного тонус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ужение зрачков и ослабление их реакции на све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окраснение кож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Понятие о  привычках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ивычка – сложившийся способ поведения, осуществлении которого в определенных ситуациях приобретает для человека характер потребност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6" descr="{219863E9-1DB3-4B5C-9FE6-EE988BBC35A6}"/>
          <p:cNvPicPr/>
          <p:nvPr/>
        </p:nvPicPr>
        <p:blipFill>
          <a:blip r:embed="rId1"/>
          <a:stretch/>
        </p:blipFill>
        <p:spPr>
          <a:xfrm>
            <a:off x="324000" y="333360"/>
            <a:ext cx="842472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тветит на вопрос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такое вредные привычк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ие компоненты содержит табачный ды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то такие пассивные курильщик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чем различие между пьянством и алкоголизмо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скажите о наркомании и токсикоман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ать характеристику вредным привычкам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Из перечисленных ниже явлений выберите признаки острого отравления никотином: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)     горечь во рту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)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краснение глаз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)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кашливан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) кашель и головокружение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) тошнот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) отек лиц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) слабость и недомоган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) потеря ориентировк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) увеличение лимфатических узлов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) бледность лиц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218440" cy="15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Из перечисленных ниже симптомов выберите те, которые являются признаками алкогольного отравления: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худшение слух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ловокружение, тошнота и рво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желтение кож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сутствие реакции зрачков на св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меньшение сердечных сокращений и снижение артериального давл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сутствие реч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збужденное или депрессивное состояни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вышение температу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291600"/>
            <a:ext cx="8291520" cy="15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Из перечисленных ниже признаков выберите указывающие на наркотическое отравление: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)  тошнота и рвота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)  повышение мышечного тонус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)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головокружен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)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ужение зрачков и ослабление их реакции на све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)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кровотечение из нос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) покраснение кож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) насморк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)  горечь во рт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онятие о вредных  привычка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редная  привычка – закрепленный в личности способ поведения, агрессивный по отношению к самой личности или обществ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редные  привычки серьезно ухудшают состояние здоровья человека (физическое и психическое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 ним относятся: табакакурение, алкоголизм, наркомания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6" descr="{43860C5F-4135-48C3-B07A-FCAF1245F1A7}"/>
          <p:cNvPicPr/>
          <p:nvPr/>
        </p:nvPicPr>
        <p:blipFill>
          <a:blip r:embed="rId1"/>
          <a:stretch/>
        </p:blipFill>
        <p:spPr>
          <a:xfrm>
            <a:off x="395280" y="1700280"/>
            <a:ext cx="763272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{2B0A6592-5102-4B46-AA99-3A94A017779B}"/>
          <p:cNvPicPr/>
          <p:nvPr/>
        </p:nvPicPr>
        <p:blipFill>
          <a:blip r:embed="rId1"/>
          <a:stretch/>
        </p:blipFill>
        <p:spPr>
          <a:xfrm>
            <a:off x="762120" y="29844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34544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8000"/>
                </a:solidFill>
                <a:latin typeface="Tahoma"/>
              </a:rPr>
              <a:t>Курение - одна из вреднейших     привычек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79280" y="1586160"/>
            <a:ext cx="4897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урение является социальной проблемой общества, как для его курящей, так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 для некурящей части. Для первой – проблемой является бросить курить,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для второй – избежать влияния курящего общества и не «заразиться» их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ривычкой, а также – сохранить своё здоровье от продуктов курения,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оскольку вещества входящие в выдыхаемый курильщиками дым, не на много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безопаснее того, если бы человек сам курил и принимал в себя никотин и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ногое другое, что входящее в зажжённую сигарет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Фото: Fotobank"/>
          <p:cNvPicPr/>
          <p:nvPr/>
        </p:nvPicPr>
        <p:blipFill>
          <a:blip r:embed="rId1"/>
          <a:stretch/>
        </p:blipFill>
        <p:spPr>
          <a:xfrm>
            <a:off x="4932360" y="2060640"/>
            <a:ext cx="391176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уре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7" descr="{4CCEB5F7-E7D0-44A2-B1F4-2F4898BBE422}"/>
          <p:cNvPicPr/>
          <p:nvPr/>
        </p:nvPicPr>
        <p:blipFill>
          <a:blip r:embed="rId1"/>
          <a:stretch/>
        </p:blipFill>
        <p:spPr>
          <a:xfrm>
            <a:off x="826920" y="1484280"/>
            <a:ext cx="73454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608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урение ведет к никотиномании, зависимость дыхательного центра головного мозга от стимулирующих его работу веществ содержащихся в табачном дым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me</cp:lastModifiedBy>
  <dcterms:modified xsi:type="dcterms:W3CDTF">2011-02-03T22:48:56Z</dcterms:modified>
  <cp:revision>16</cp:revision>
  <dc:subject/>
  <dc:title>Вредные привычки челове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20e0000000000010243000207f6000400038000</vt:lpwstr>
  </property>
</Properties>
</file>